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0718-5D26-450E-9AC8-0B34B25F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4A7-EC7B-4FBF-9604-66497ADF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7BD73-AFFC-4644-858C-21BADD4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A1CCC-6B13-444F-9CF8-80325814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29F27-301C-4493-A496-72B45D70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C46B1-930B-489B-B823-954B68C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6415C-93FE-4E36-A815-AB80214D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D44C9-DDAA-47A4-BF64-170768CB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C721F-ACD3-442A-BB03-B81E75F0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4AFCD-1EEA-4460-8334-5DCB8B5E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9E2FB-8000-4CA0-8547-765505B8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D3438-1D62-45A0-949B-597548B2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1DD7-9490-4199-9359-FE1E0C97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F1C3D-796D-4A6D-8F7F-60DDA8B6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B5A2E-D59D-4CBC-A5D4-176829D4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92475-42F7-4001-B3B0-2D7C9066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42398-29B0-4493-B90B-658D2E5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89585-4AAC-4825-B717-5B97C934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B4F4C-8A6D-4AE3-AF45-1BD27A8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DF3E-71E3-4949-8007-AA06BAB3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C2729-EDF8-4139-B8E8-248F22B7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18CB0-889A-48AF-BE47-628156B0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0B284-058B-43BB-A243-83B6F5BB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5DEC-4E8C-4EC4-96E9-6775C741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2A579-4726-4C68-B1EB-8FC13BD0F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39C7F-7D88-4FBD-B476-CBDDA890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4A3DD-E423-4492-A067-BFDB681D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FFFD0-FA84-48F9-8D6A-F84B5C18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4614-2D90-43D7-BF55-0F7ACE88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F680-6DE9-4365-80B2-57D8F8AF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9FDCC-3735-4A76-8D03-F7DD5E27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66990-A10B-4D0C-86D1-41F2F541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4B17-51B0-4DBC-9301-2AAAE027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69449-FB7B-4033-B766-9448976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1798-4278-4B63-BBFF-21787DE7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97B65-F197-414E-A330-BCA442ED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871C3-7AEE-45EE-A11C-062981D1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1D867-2AE8-4EA6-A05D-DE926C7D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81C50-F23C-4E4A-A7E3-48157042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CB6B0-C613-45BD-A6B2-25599C97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38055-B426-490C-BE23-FCFB075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F8B35-73F0-4FF8-A000-0C79F11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60D61-E648-45F7-80AE-8113C897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E0828-C396-4471-928D-B1E33964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E8515-7EF4-410B-A5A4-01559856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BDC0-96A0-4F89-988F-9EF26999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F04DDC-B039-456B-9737-710A6751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F320-56C7-40BD-9154-BFE149F2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9B922-84C9-46E1-8ECA-DFA6AC2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542796-6534-4580-93A8-9913937A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14A9E-B820-4E8A-A227-F35990BB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8EF10-DBCE-4248-AB83-7C11D202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1D44F-B432-4862-ACBE-DA276603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84231-30EB-4EEC-B9C1-783E3EE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8E82A-6527-4CE2-9175-2C68F3F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A605C-5E02-4503-B6BD-68121444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A5C3-E8B2-4B13-B589-BF6CD8BF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0694C7-8842-4FBF-9AC0-8E119DB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AC50C-A575-4E0F-A078-FAEB5A1C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026F4-634E-46BF-B7F7-AE43B0B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51CFA-6312-40C6-8823-38CCAFEF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32581-30FA-4B5A-8420-68F72E45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D73E37-F05E-438A-96D4-EF904E36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7E3CA-B6A7-4812-96E8-042E50D2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F1B58-3C94-49BD-8252-4C7AB862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17A44-A221-4581-9D4E-13AA1CFB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86C77-B9D2-437E-9CBB-B2D5C790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7CC-D845-43FD-B68F-07BFE2CF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7D86EA-4385-4CE0-945F-1BC7FD35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335B01-C067-45D9-9E63-706A1BE3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CAAB9E-6F40-4951-A970-605BF60D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DDF98-069D-439E-8BF2-EB15F00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0837C-61C6-45C8-BE53-FDCB86A7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ACC4AF-99D0-4351-9D20-43A0D75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40ED5-89D5-454D-B11C-F5BD794A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E9ED2-E0A7-4F76-B6B3-7AE7E4D0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B22715-0689-4FF5-B36B-23887805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5D655C-851E-4E9B-B2F5-F2A5CEB9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7ED2-CB49-4ED8-B160-62946CA9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EFD4B-8AC1-4643-BBCD-58D03969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4454C-19CF-49F3-99FC-8D4DB61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F31540-B7AE-4BB8-A1D5-D3E5D278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64AEE-1CBB-4550-8555-C42277CD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71FBC3-4A6F-437C-BC4F-E9B17C3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90E98-E29F-4870-8651-7DDF089B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B68E64-5415-4146-AE54-C34C2810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9C985-C607-4DDC-BC02-EBA7CFCD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88F2D9-A142-4C29-AC31-28C649E0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C8CBA-D39D-4ADD-909D-A123C2DE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046E-0E8E-4FC7-BB85-765EEAC0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55553-56E3-4EAD-AC23-1BB36716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4A303-5DD2-47B9-A07B-136CB33B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27A2C-2243-428B-86AF-2C95D483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AE8B8-E841-4385-AC0E-74D6277D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A40FA-5448-4B45-A215-7B18D72F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E4547-4758-4677-B59F-448D86DB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268E7-539A-4B03-9FC6-3C38907A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A3749-053D-4E1F-8388-3A4B1C14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71D56E-BB65-48CC-A3D7-951C252C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72796-71E4-49A9-A1CE-631D1FC2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83DA-6AD0-4368-96A0-DD41B2C3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F190AB-EA05-4FB3-8D1A-F0F7591B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C37EA5-B8D3-4D70-9205-FC72729C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BE165F-BF1B-4C9F-9DA2-D1E06805D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1F9E6-0BB3-43D2-AD7A-63ACC9EB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0F3FE7-2F85-4593-A935-7B9C26E9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10C9B-9D02-4330-A9DF-6F2594A8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FEEFC-303D-4604-A872-5FEBFB95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0BDAFF-9FDE-460D-9194-B4940D28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33AF26-3B3B-4E39-8301-6D21E1D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DAA39-0AFF-4BC5-97D6-22021FA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6F1-54DC-4985-804A-9F59A38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4A26-9ED3-4458-AECD-DFF2BCBF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0D773-2E12-4D28-A851-14CE50D5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8B5A7-0C8A-4B99-9ED4-8E44E407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4FD6C-3F86-4BCA-B58A-F89C2D82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011D70-D35D-4DDE-BD13-20FD051AE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ACC75A-7283-452B-8BE9-BDDC3E4A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9A8B1A-C150-4C4A-A368-92681FCA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70756-FC24-45B9-994E-99C1E6097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13556E-ABA6-40F4-8EE7-91063DE7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C09056-1B53-41A1-B00B-1CC87414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3AADF-0752-4286-A659-18CF5331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7445-4E73-4E51-9E4B-FA217A21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20C62-CE21-4D9C-A43A-4E506215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DF443-5D9D-451F-9385-BFD3A340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33CC1-618F-44AD-8FCF-0E64DEDA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76F08-D1B4-4AFE-BA33-4245F04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360DD-62A9-42AA-9409-F3550F3B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5820D1-F0D7-4292-B60D-7A8D0574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717888-7FC8-4933-B12D-2F4F6F87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A09ACB-187B-437F-9F9B-6C0F97A3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ABCD42-A202-4BFE-B3E9-599ED41B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65C978-BE8C-4132-A00D-7841000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D51-C9CB-4346-AAF7-599E04FB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554DB-F0DF-4B15-A23A-882962E4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A4CA7-7E8B-4B5B-912E-CE884EE9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C9893-C2C6-424D-A071-A4181333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6D549-9776-4531-BFF9-FFA46F76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E87021-D4D2-45DB-8CBE-1C1A517A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54E490-FE66-4B73-B6DC-8422D16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34DB3-8C9C-4A5A-A413-496516A0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0F78E5-EA02-4FD4-81E2-F93C098E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700C1-BF9C-4F96-AE6E-F06AC8EC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E5DC5-EAF6-43CF-A330-45688D04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5091-4FE4-41D2-B885-79D1838C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13FF2-FC81-4ED7-B04D-6ABC937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D6C44A-90AA-46FB-9C21-120A49A6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3A5971-942D-4D22-906C-97E479E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EAD44D-F3B9-4522-889C-AA1336F1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2C36A-5829-476D-834C-9C494101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40969-FA45-4916-88FC-F46BFA83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23447C-907D-4C49-9CCC-9F2969BD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E9BE8-AF9E-4073-A6F3-9A32AD64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1242D-CA28-4779-9DF6-F856D46E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83AF4-35B8-4F5D-94B1-5E60811D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B8841-8C80-45C6-AD6C-B517FA1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1C863-3052-41E5-9A04-6281C766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298EB-6D48-4BCA-9056-C08CEDD7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2594C4-854E-4B8E-9DDA-4BCB9B7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C5A1EB-045B-4CAE-A173-8B63DA80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159BDB-C765-445E-9440-C3DB03A9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3A978-DAE1-4FDB-85CE-F92304DB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78A364-0932-4BC4-8B16-BE335967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3D8E1-D170-4B0C-951B-F073CDBA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1A633-AD6C-4A47-94F5-96668489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722F39-6222-4A87-9C9B-8F64C53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D5545-3BB3-4E50-849C-4F52306B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50555-6EC0-42CA-B923-744CB8DB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540AB1-4673-4225-AA69-D085033A8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AACA3D-ACBE-4EDB-AB3F-9B8F3975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A22C82-5AE7-4CF0-A0C5-2F6DE47D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7BD636-0B77-4282-818F-C476733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DF09B7-7DFE-4D1B-B4E5-E1BD2901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9D6B8E-1AAC-4F73-A2AE-A3A89BD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5C7C71-BF9E-4C62-BA54-3C168F3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6FD51D-BD9F-49E9-B104-C697B593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E91C9-2BAA-4D20-BAD7-6D89E50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501CC-ABA1-40C0-B3F1-B3E8AEC0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3ACD86-2A1C-4F46-A9F9-98F5066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76B903-0CFA-413F-8D61-0AF77F96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4D08E3-9A45-4EC5-8B74-6FDD505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CBE79B-BDF5-4954-BF69-8DB27BC8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FF438-12A8-44F7-B642-4970983C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12602B-144C-471B-BED1-6AA8129E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348DE0-7BA7-4E5D-8D95-171C8B5E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436B71-76FB-4425-A9BC-5A5906E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97BBD5-6E4A-4DA4-8A68-A5BF06DA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99A9E8-A6A6-48E2-B15C-D48CC8EA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80B4-64C8-4A68-9A03-028E4EB6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F47ED4-30CF-4E1E-8393-35CE1996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FDEEC9-4179-4E62-B42B-1C538641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6706B-1B56-4819-A26B-9F43DE4B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EBA0CA-2EF6-418B-B3EB-00E1BD5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CE6249-67F7-4547-AB52-EA568E0F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CA80DD-3335-4DBB-A8B2-006A4015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E5481-7BBA-419A-AD54-1B9FBC1A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2B7B1-B105-45A4-AF89-0E8D80B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8FB1-6969-4077-9B77-622555FA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E4D0-7690-4E36-8265-CFCBC20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ACCE-75F5-4028-9228-F2F59E6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13F3-8CAE-4548-8EBC-19A4130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51465-100B-4A11-B80E-13740EEB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7150-1D6A-4FE2-905C-E8180914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55EC1-D3BB-443B-8826-5E8D7926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4448-5AA4-4DC1-85D9-50E9ACCC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41A3-6A64-4ECB-8973-B157D6BC8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000C-C2D2-401D-B1DB-714C4DCA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6503-E10C-4949-9AFE-584EBA9D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28F05-A45F-4D4D-9A22-92922FFA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BF0-9BB0-4319-AD96-AA8DA3A9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EA6DA-3D0B-4593-96A4-99F8F3D3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07FA-46B5-4062-94D8-A7E94C5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7F93B-2B42-461A-A09C-A9B1057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0C6A0-E8A1-4CAD-AD3E-0888A0A9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4DB2-80EF-4F7B-9F9D-2CFFDBE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4DDC-B4B6-4AD4-8EAB-53677E2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F649F-9077-475A-93FA-DDC727C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1EB04-4AE3-45E1-80BD-23B2AEF8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9FC1-80C6-4B91-B582-E19D68D3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674EE-0576-409D-B675-4A80CE87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94B-8D35-43F6-A676-DD76BA569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384F2-8B4B-4EE7-9A9B-50CF344C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BB3D0-CCF2-4BA8-B53A-BF82F8AD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5547-4153-42A0-9C5E-2C8A3869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559B-4177-4B2D-B6A9-B7FE5852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BCFD-BF61-413B-91EB-EF4A8DB1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7737-7D85-4D0E-8847-A02A3AD7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B6405-8A54-4430-AED8-3D9CA5BA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5A65F-4921-47E0-9001-8796299C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13854-5274-4840-8613-B2E63D61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D1E67-1787-4166-B63B-0A533D31E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297-C349-43F4-8B27-263EC9D7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84AE-B9B1-4B10-9AE2-B10A52EB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5F495-5A55-442B-89A5-80331A16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CF191-8F74-4F83-A996-37740221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AEBA4-1B9F-4C57-BEAA-90AFD0A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A1E8B-8043-4A1B-AF45-5F09FD48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7F59-FC85-4609-AFCE-9BA890A0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C6CAF-BF6C-4EB3-BC7D-BF564ADE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3FC95-635A-4253-8A66-C6B3E6D9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B8F5-5E19-444F-8097-5A164932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624E-958E-4BC7-8EB3-21B2D910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72B-3310-4814-94EA-B3C469D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C013E-FD59-477F-A24A-F09A8CBC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F5A7D-B990-4F25-A8D3-823E2381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56C5C-2751-4ACC-933C-14FD12B1F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68E40-28D1-4B01-ACEC-1B0C8FCD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F274A-A6BD-47A1-9AF5-40E0A53B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70282-12D2-4B81-8397-F810557C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F8B91-5D55-4DB5-9C78-BC747C85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EA5BD-63A3-4694-9AE4-D121C49E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51781-E7BA-4B20-BF9B-710EB796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D0E38-6A75-466D-BCBE-6CB8E653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FAE-19D2-4238-91F1-0C8E4E94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CF701-D3C5-4C97-BA41-21870B4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FE4D-927F-4FFE-AADF-3E8A2CD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2D5BE-D995-4AE0-BBA4-6C7742A7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0C799-257E-48CE-B4CE-0E51EFA1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28D98-9AAD-4B96-BB47-6C44389E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DB32A-F9CC-4A5A-B836-1DAB12B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09A08-FB44-47D2-A819-7FF5DCF9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D12FF-DB44-4291-A460-5C58B746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C9ECA-042E-45C1-BA16-18A2D27D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A91F1-943C-40A0-BB21-A8C87917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AC3-70BA-49E4-AE2B-EF3A4DE2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734C5-20EA-4E2A-AC8E-8BCDFD48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865C-CA1F-490A-90AB-48CA1889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CB766-E1C9-4EF0-8282-B935CD7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43383-0D32-4544-839B-4A4733AC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224A-302F-4FDF-A10B-29051352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0A91C-DC1D-4666-A14C-4FF8F957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06161-4859-4A47-AD4D-7966F913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2DA5B-48E6-44F1-87BF-3B88F7E3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CB7E-2FC4-4F9A-A5B7-BECF603D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B4FFF-1C0E-4CAF-8FC6-B9CBA82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A670-0C76-40E0-AC4F-2FCD5AAAB5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F507-07AC-4E42-992A-882735C0FB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A876-542E-40D1-9F8F-FA1257E6E6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05F3-03D4-4B9C-9776-75AB6D41F9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CE06C-4EF6-4D5E-A9BB-20267227BF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48CB-6B9D-4209-A9B0-ACD8033A2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911A-BA72-45B3-A89D-4633EB6220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BE8-2AFE-4231-84E7-E7B720C62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777-71F3-445A-81D8-D472815A64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CB6-550A-4AF2-883C-094799551C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B68-F685-4608-B7B0-FF916332AA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7DA9-FAC3-4F2E-9149-C7B797448E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0D31-8AB6-4076-B275-E2DDABF120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AA44-BCD0-413F-B9B6-CBA5262217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1112-F0B5-4B76-BB4E-CBB6E9489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2521-B2AC-4442-B348-4D2A05DEDC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F4F9-D22D-49FC-B6F4-847DB29C79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C8A-3F14-44D0-8DFA-FF1CEF2139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F4F-822E-469E-8861-389839E62E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370A-0DFE-466B-8DEB-2B69E720CB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1EC2-14BD-488F-A035-98255F824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5224-D5F0-4B86-8780-19E78276CB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D952-E095-4C52-ACE2-EDFFF40986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A490-175E-4528-98FE-08AB250D6F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781D-EEE2-4F39-97B8-9C004D8A87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7B9-FF82-4EE4-A3FB-62D488150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CD3-8FCA-41AC-A4DF-231CC52D3A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4560-5C77-4606-B7BF-AE0AD5ADC6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331E-2FE6-4CCE-86ED-5DFF59BE06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A639-8E4F-4403-85EC-41CE9519E3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0617-EA16-4CD2-840A-16C58C4433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8BFD-9765-495D-ABBB-127F7307B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BA0-97F9-4A74-9B18-B76722942F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8E45-F5C2-4250-975E-21F7F2502F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05E3-8F32-4283-BCEA-249A55651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CFEC-2819-417C-A475-35BE74EB31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D397-1C41-4069-BA65-F16C08BAF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19E7-B0FD-4D59-AD97-615F56F11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82D3-0A95-43E7-B675-A169594EA0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0EF0-E485-4EE4-AB12-58FB1D4F09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33D7-75B6-44A8-A115-AA9C36F7C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616E-314C-4EE2-8DD9-D0D698AC7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38400" y="2676600"/>
            <a:ext cx="66672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66600" y="1467000"/>
            <a:ext cx="9010800" cy="392400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6948360" y="2565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4643280" y="363060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7236000" y="3645000"/>
            <a:ext cx="433080" cy="3189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492360" y="400536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6"/>
          <a:stretch/>
        </p:blipFill>
        <p:spPr>
          <a:xfrm>
            <a:off x="6516720" y="4005360"/>
            <a:ext cx="433440" cy="318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7"/>
          <a:stretch/>
        </p:blipFill>
        <p:spPr>
          <a:xfrm>
            <a:off x="4356000" y="4365720"/>
            <a:ext cx="647640" cy="3189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8"/>
          <a:stretch/>
        </p:blipFill>
        <p:spPr>
          <a:xfrm>
            <a:off x="1692360" y="4724280"/>
            <a:ext cx="792000" cy="3193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9"/>
          <a:stretch/>
        </p:blipFill>
        <p:spPr>
          <a:xfrm>
            <a:off x="2700360" y="5084640"/>
            <a:ext cx="647640" cy="3193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10"/>
          <a:stretch/>
        </p:blipFill>
        <p:spPr>
          <a:xfrm>
            <a:off x="4067280" y="5084640"/>
            <a:ext cx="6476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28480" y="2571840"/>
            <a:ext cx="8087040" cy="1714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1403280" y="38908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2556000" y="39038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580000" y="38894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5"/>
          <a:stretch/>
        </p:blipFill>
        <p:spPr>
          <a:xfrm>
            <a:off x="6732720" y="3902040"/>
            <a:ext cx="35856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图片 1" descr=""/>
          <p:cNvPicPr/>
          <p:nvPr/>
        </p:nvPicPr>
        <p:blipFill>
          <a:blip r:embed="rId1"/>
          <a:stretch/>
        </p:blipFill>
        <p:spPr>
          <a:xfrm>
            <a:off x="162000" y="736560"/>
            <a:ext cx="8820000" cy="57434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3"/>
          <a:stretch/>
        </p:blipFill>
        <p:spPr>
          <a:xfrm>
            <a:off x="2166840" y="10666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4"/>
          <a:stretch/>
        </p:blipFill>
        <p:spPr>
          <a:xfrm>
            <a:off x="2124000" y="23050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5"/>
          <a:stretch/>
        </p:blipFill>
        <p:spPr>
          <a:xfrm>
            <a:off x="3406680" y="1700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6"/>
          <a:stretch/>
        </p:blipFill>
        <p:spPr>
          <a:xfrm rot="19149600">
            <a:off x="5003640" y="1728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7"/>
          <a:stretch/>
        </p:blipFill>
        <p:spPr>
          <a:xfrm rot="19149600">
            <a:off x="6372360" y="13701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8"/>
          <a:stretch/>
        </p:blipFill>
        <p:spPr>
          <a:xfrm>
            <a:off x="5667480" y="23050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9"/>
          <a:stretch/>
        </p:blipFill>
        <p:spPr>
          <a:xfrm>
            <a:off x="1763640" y="508464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10"/>
          <a:stretch/>
        </p:blipFill>
        <p:spPr>
          <a:xfrm>
            <a:off x="3708360" y="508464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11"/>
          <a:stretch/>
        </p:blipFill>
        <p:spPr>
          <a:xfrm>
            <a:off x="6227640" y="50418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2"/>
          <a:stretch/>
        </p:blipFill>
        <p:spPr>
          <a:xfrm>
            <a:off x="755640" y="6237360"/>
            <a:ext cx="194472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3"/>
          <a:stretch/>
        </p:blipFill>
        <p:spPr>
          <a:xfrm>
            <a:off x="4643280" y="6237360"/>
            <a:ext cx="252108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4"/>
          <a:stretch/>
        </p:blipFill>
        <p:spPr>
          <a:xfrm>
            <a:off x="8388360" y="3141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5"/>
          <a:stretch/>
        </p:blipFill>
        <p:spPr>
          <a:xfrm>
            <a:off x="8388360" y="3573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6"/>
          <a:stretch/>
        </p:blipFill>
        <p:spPr>
          <a:xfrm>
            <a:off x="8388360" y="3933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7"/>
          <a:stretch/>
        </p:blipFill>
        <p:spPr>
          <a:xfrm>
            <a:off x="8388360" y="4292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8"/>
          <a:stretch/>
        </p:blipFill>
        <p:spPr>
          <a:xfrm>
            <a:off x="8388360" y="4724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9"/>
          <a:stretch/>
        </p:blipFill>
        <p:spPr>
          <a:xfrm>
            <a:off x="8459640" y="508464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0"/>
          <a:stretch/>
        </p:blipFill>
        <p:spPr>
          <a:xfrm>
            <a:off x="8459640" y="544500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1"/>
          <a:stretch/>
        </p:blipFill>
        <p:spPr>
          <a:xfrm>
            <a:off x="8604360" y="580536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9:52:2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